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11B-0A26-49D7-BCBF-8E4C26E1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57F-E534-4F69-A8C6-5A021B9F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E94-27E0-4375-92DC-BD06DDC5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669-8676-4213-BF87-BF2E1E42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385A-D3ED-4909-A91A-0A684C94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6763-E95B-4CB0-AC7C-90608FBD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2347-E266-476B-88E8-F6D7474F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8145-ED3C-482E-8541-73C9331B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BEC3-7E19-481B-A9DA-10B6DBC8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6ED9-741B-45C7-BDBC-BFD1364E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BAD6-F84E-46B5-B1AA-26B27809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E85-F914-4B14-9067-6E1F5521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C663-7D25-420F-9316-95EF9965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568C-E23D-4DCF-BB50-4901F20F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562F-AC94-4E0D-B6B3-A5B82B59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3285-AEFC-4E71-97E0-E4F1F131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8522-8EFC-4F5F-A461-246C0F66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72F-54C7-4EC0-ACD3-6CC7B4EA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F6B-EA42-460B-AED5-A0FBDAB2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362-125C-4DC1-9835-ECFD4D8F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A9D-D504-45FA-84B5-3A97E4AB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D25-0A32-43D1-92E7-6EC70213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6CED-260F-4E03-8080-870994D6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A4D-5F73-4EC9-BB56-8840F095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9B17-B03E-4043-B4A2-0EF7E77E5690}" type="slidenum">
              <a:rPr b="0" lang="ar-Q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667C-8BC2-4735-9069-94C27F8C228F}" type="slidenum">
              <a:rPr b="0" lang="ar-Q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Designing and Analyz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Questionnaire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r. Ge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ducation Instit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ypes of Closed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770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ank Order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dents place things in or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cc"/>
                </a:solidFill>
                <a:latin typeface="Comic Sans MS"/>
              </a:rPr>
              <a:t>Which activities do you like to do in your spare time? Place a “1” next to the activity that you like to do most, a “2” by the next favorite, and so on to the least favori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Watch T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R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Visit frien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Surf the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Sh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ypes of Closed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ating Scale (Semantic Differentia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o called a “Likert Scale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a statement; choose your response along a sc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My students are motivated to lear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050920" y="4941720"/>
          <a:ext cx="6193080" cy="648000"/>
        </p:xfrm>
        <a:graphic>
          <a:graphicData uri="http://schemas.openxmlformats.org/drawingml/2006/table">
            <a:tbl>
              <a:tblPr/>
              <a:tblGrid>
                <a:gridCol w="1238400"/>
                <a:gridCol w="1238400"/>
                <a:gridCol w="1239840"/>
                <a:gridCol w="1238040"/>
                <a:gridCol w="12384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Not 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Dis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trongly Dis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Open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38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explore topics in-dep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s people a chance to respond in deta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time-consuming to summarize and analy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ypes of Open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3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en-ended Ques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What changes would you like to see in our science clas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m Plus Ques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Some things I would like to see change in our </a:t>
            </a: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science class are 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Demographic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mographic questions may ask about personal characteristics such as -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83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83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83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nic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83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83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e character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8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ypes of Scal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-level (yes/no; agree/disagre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-level (yes/no/not su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-level (Likert scale – Strongly Agree, Agree, Undecided, Disagree, Strongly Disagre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rger scales are difficult to analyz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0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Effects of Scal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73160"/>
            <a:ext cx="74865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olice need to do a better job of enforcing traffic law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59280" y="2924280"/>
          <a:ext cx="3771720" cy="73656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059280" y="4365720"/>
          <a:ext cx="3771720" cy="150480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  <a:gridCol w="1257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ither Agree or 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1258920" y="3141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49338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59280" y="2924280"/>
          <a:ext cx="3771720" cy="73656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1258920" y="3141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Effects of Scal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582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olice need to do a better job of enforcing traffic law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87280" y="2924280"/>
          <a:ext cx="6978600" cy="1336680"/>
        </p:xfrm>
        <a:graphic>
          <a:graphicData uri="http://schemas.openxmlformats.org/drawingml/2006/table">
            <a:tbl>
              <a:tblPr/>
              <a:tblGrid>
                <a:gridCol w="1395720"/>
                <a:gridCol w="1395720"/>
                <a:gridCol w="1395720"/>
                <a:gridCol w="1395720"/>
                <a:gridCol w="139572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ly 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deci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ly 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258920" y="45021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Problems to Avoid in Writing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582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ading Questions (Loaded Questions or Biased Question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Don’t you agree that discipline is a major problem in this schoo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Do you believe it is all right to spank young children despite the SEC recommendations not to do s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Problems to Avoid in Writing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7558200" cy="41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uble-Barreled Questions (asking two things in one questio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Did this class increase your interest in science and motivate you to study har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Do you agree that pay is low for teachers and that the government should be working hard to increase 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cc"/>
                </a:solidFill>
                <a:latin typeface="Comic Sans MS"/>
              </a:rPr>
              <a:t>Purpose of Questionnaires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Questionnaires are the most common data collection methods used in research.  They can be used to asses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pin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Problems to Avoid in Writing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7558200" cy="41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clear or ambiguous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What do you think about school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What role should the principal play in educating studen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Problems to Avoid in Writing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5582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lo Effect (questions that link a position to a particular person or grou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Do you agree with the Emir that research should be one of the top priorities of Qata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Comic Sans MS"/>
              </a:rPr>
              <a:t>Qatar Petroleum wants the Independent Schools to do a better job of teaching science so that students are prepared for the workplace. Would you agre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Problems to Avoid in Writing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5582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vasive questions about personal in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Do you ever argue with your paren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What are the major problems in your hom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ips for Creating Good Questionnair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5582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now your aud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that the length, content, and wording matches the intended aud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questions clear and conc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id technical wor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ips for Creating Good Questionnair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846440"/>
            <a:ext cx="7558200" cy="30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 certain of your go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fore you start writing questions, be clear in your own mind what you want to find 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ips for Creating Good Questionnair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846440"/>
            <a:ext cx="7558200" cy="30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ke the directions and format clear and easy to fol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-17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 your directions and demographic questions at   the beginning of the questionnai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-17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possible, read and explain the directions or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ips for Creating Good Questionnair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846080"/>
            <a:ext cx="7920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y the questionnaire out before you use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-17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a similar group that is not in your stu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-17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them to read the questionnaire and tell you if something is not cle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-17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ise your questions based on the information you get from your tryou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ips for Creating Good Questionnair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846440"/>
            <a:ext cx="7558200" cy="35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n’t ask too many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your questionnaire short and to the po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ople get tired and lose interest on long questionnaires so the responses you get toward the end may not be vali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687060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Ways to Deliver Questionnaire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846080"/>
            <a:ext cx="75582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176760" indent="-17676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per-pencil/face-to-f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76760" indent="-17676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l or take ho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76760" indent="-17676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leph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76760" indent="-17676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ine delivery and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7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7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Ways to Analyze The Results of a Structure Questionnaire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846080"/>
            <a:ext cx="75582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mmarize the percentages for each qu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cc"/>
                </a:solidFill>
                <a:latin typeface="Comic Sans MS"/>
              </a:rPr>
              <a:t>Students should be required to wear uniforms to schoo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71640" y="3963960"/>
          <a:ext cx="6978240" cy="1336680"/>
        </p:xfrm>
        <a:graphic>
          <a:graphicData uri="http://schemas.openxmlformats.org/drawingml/2006/table">
            <a:tbl>
              <a:tblPr/>
              <a:tblGrid>
                <a:gridCol w="1395720"/>
                <a:gridCol w="1395720"/>
                <a:gridCol w="1395360"/>
                <a:gridCol w="1395720"/>
                <a:gridCol w="139572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ly 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deci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ly 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7705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Advantages and Disadvantages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5717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assess a large group quick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y to analyze if constructed correc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“good” language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people give answers they think you w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very good for getting in-depth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Ways to Analyze The Results of a Structure Questionnaire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846080"/>
            <a:ext cx="75582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lculate the mean (average) for each it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cc"/>
                </a:solidFill>
                <a:latin typeface="Comic Sans MS"/>
              </a:rPr>
              <a:t>Students should be required to wear uniforms to schoo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71640" y="3357720"/>
          <a:ext cx="6978600" cy="1638000"/>
        </p:xfrm>
        <a:graphic>
          <a:graphicData uri="http://schemas.openxmlformats.org/drawingml/2006/table">
            <a:tbl>
              <a:tblPr/>
              <a:tblGrid>
                <a:gridCol w="1395360"/>
                <a:gridCol w="1395360"/>
                <a:gridCol w="1397160"/>
                <a:gridCol w="1395360"/>
                <a:gridCol w="139536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ly 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deci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rongly Disa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Ways to Analyze The Results of a Structured Questionnaire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846080"/>
            <a:ext cx="75582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lculate the mean (average) for each it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 x 5 = 10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40 / 100 = 3.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 x 4 = 16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x 3 =   3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 x 2 =   2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10 x 1 =    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4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788000" y="2781360"/>
            <a:ext cx="79200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3348000" y="3860640"/>
            <a:ext cx="504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agre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3708360" y="5229360"/>
            <a:ext cx="374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4932360" y="551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Comic Sans MS"/>
              </a:rPr>
              <a:t>3.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219640" y="522936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ays to Analyze The Results of an Unstructured Questionnaire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846080"/>
            <a:ext cx="75582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marize the com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for patterns or themes that run through the com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percentages for major the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8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7705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Types of Questionnaires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1339920"/>
            <a:ext cx="7696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ructu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dents select a response from those giv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structu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dents create a respon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bin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ains structured and unstructured i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Sample Structured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Questionnaire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1571760"/>
            <a:ext cx="792180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hy did you choose teaching as a career? Tick each reason that applies to you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___ I like working with childr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___ The pay is better than most job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___ I can help my country and socie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___ It is a safe profession for wom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Sample Unstructured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Questionnaire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716120"/>
            <a:ext cx="792180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hy did you choose teaching as a career? In the space below give the reasons why you chose to become a teac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332000" y="3284640"/>
            <a:ext cx="640872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ypes of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04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osed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ices are provided to the respond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dents must create respon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mographic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about the characteristics of the respond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ypes of Closed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025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chotomous Questions (2 choic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es/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ree/Disagr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Do you think a paper recycling program should be started in your school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Yes</a:t>
            </a: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cc"/>
                </a:solidFill>
                <a:latin typeface="Comic Sans MS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Types of Closed Ques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90160" y="1341000"/>
            <a:ext cx="7629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ltiple-choice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respondents op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y ask for single or multiple answ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cc"/>
                </a:solidFill>
                <a:latin typeface="Comic Sans MS"/>
              </a:rPr>
              <a:t>How did you hear about our Websit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Newspap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Magaz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Rad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Comic Sans MS"/>
              </a:rPr>
              <a:t>___ Other: Please specify 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18:29Z</dcterms:created>
  <dc:creator>Gene</dc:creator>
  <dc:description/>
  <dc:language>en-US</dc:language>
  <cp:lastModifiedBy>Gene</cp:lastModifiedBy>
  <dcterms:modified xsi:type="dcterms:W3CDTF">2008-02-25T18:24:28Z</dcterms:modified>
  <cp:revision>42</cp:revision>
  <dc:subject/>
  <dc:title>Designing and Analyzing Questionnair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